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21.png" ContentType="image/png"/>
  <Override PartName="/ppt/media/image19.png" ContentType="image/png"/>
  <Override PartName="/ppt/media/image9.wmf" ContentType="image/x-wmf"/>
  <Override PartName="/ppt/media/image1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27.png" ContentType="image/png"/>
  <Override PartName="/ppt/media/image33.jpeg" ContentType="image/jpeg"/>
  <Override PartName="/ppt/media/image10.gif" ContentType="image/gif"/>
  <Override PartName="/ppt/media/image31.jpeg" ContentType="image/jpeg"/>
  <Override PartName="/ppt/media/image25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5.png" ContentType="image/png"/>
  <Override PartName="/ppt/media/image12.wmf" ContentType="image/x-wmf"/>
  <Override PartName="/ppt/media/image1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468-C102-46C6-9517-AC75B183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514-FB81-45F8-AE1D-5F7F636B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F5AD-1E4A-444C-A142-18204CF1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0255-FEA9-440E-A3BE-6487774B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818D-E03E-41A7-90D6-8AFAD962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CF2-889C-41B3-8CF2-8E6C3EC5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75C1-4A7C-4C00-9BCE-6ABF2758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996-4E58-49B1-9D58-7521362D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9E6C-1C13-4A0C-9E79-9C858E60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8691-27FE-4F35-B209-BC532304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9AFB-89E7-418E-B147-6A0EB8DE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D91-73E1-4331-9C5B-0EB07D87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D2F9-3F8F-4676-A2DA-DC54DC76FB3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43000" y="3657600"/>
            <a:ext cx="6705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lurrd"/>
              </a:rPr>
              <a:t>Giovanni Battist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lurrd"/>
              <a:ea typeface="Blurrd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0" y="21337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lurrd"/>
              </a:rPr>
              <a:t>Chi er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lurrd"/>
              <a:ea typeface="Blur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43000" y="380880"/>
            <a:ext cx="725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Immaginatevi la confusione quando dovette far capire a tutti quanti che non gli importava se nella sua famiglia tutti avevano il nome di qualche parente: l’angelo aveva detto che doveva chiamarsi Giovanni, e non voleva certo rischiare di contraddirl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90720" y="4343400"/>
            <a:ext cx="1592280" cy="1981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962520" y="2971800"/>
            <a:ext cx="1461960" cy="2209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912000" y="4184640"/>
            <a:ext cx="1295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0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25840" y="685800"/>
            <a:ext cx="56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lurrd"/>
              </a:rPr>
              <a:t>Fu cosi</a:t>
            </a:r>
            <a:r>
              <a:rPr b="1" lang="it-IT" sz="3200" spc="-1" strike="noStrike">
                <a:solidFill>
                  <a:srgbClr val="000000"/>
                </a:solidFill>
                <a:latin typeface="Blurrd"/>
              </a:rPr>
              <a:t>'</a:t>
            </a:r>
            <a:r>
              <a:rPr b="0" lang="it-IT" sz="3200" spc="-1" strike="noStrike">
                <a:solidFill>
                  <a:srgbClr val="000000"/>
                </a:solidFill>
                <a:latin typeface="Blurrd"/>
              </a:rPr>
              <a:t> che nacque Giova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3352680"/>
            <a:ext cx="557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Con queste premesse, non poteva certo venirne fuori uno qualsi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51055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D’altra parte, la moglie di Zaccaria era parente di una certa Maria, che tutti sanno che con gli angeli aveva un certo feeling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1711440" cy="1825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96080" y="16621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ncino Caps"/>
              </a:rPr>
              <a:t>Voce che grida nel desert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315200" y="1752480"/>
            <a:ext cx="50328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3000" y="609480"/>
            <a:ext cx="72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Il fanciullo cresceva e si fortificava nello spirito. Visse in regioni deserte fino al giorno della sua manifestazione a Israele.</a:t>
            </a: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45360" y="289548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Un perfetto asociale, tanto per capir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876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...Dicono che mangiasse le cavallett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5715000"/>
            <a:ext cx="1809720" cy="808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581280" y="5486400"/>
            <a:ext cx="1808280" cy="1160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477120" y="5638680"/>
            <a:ext cx="1809720" cy="843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-1692360" y="3681360"/>
            <a:ext cx="15242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62 0.01503 L 0.21875 -0.04624 L 0.27587 0.01295 L 0.31077 -0.04833 L 0.33472 0.01942 L 0.38073 -0.03977 L 0.39809 0.01295 L 0.42674 -0.05688 L 0.46771 0.01295 L 0.48681 -0.05457 L 0.5125 0.01295 L 0.53768 -0.05249 L 0.56649 0.01087 L 0.59497 -0.05249 L 0.62361 0.01711 L 0.67118 -0.04624 L 0.68698 0.01503 E">
                                      <p:cBhvr>
                                        <p:cTn id="24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500"/>
                            </p:stCondLst>
                            <p:childTnLst>
                              <p:par>
                                <p:cTn id="26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19320" y="1143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Finche</a:t>
            </a:r>
            <a:r>
              <a:rPr b="1" lang="it-IT" sz="2400" spc="-1" strike="noStrike">
                <a:solidFill>
                  <a:srgbClr val="000000"/>
                </a:solidFill>
                <a:latin typeface="Blurrd"/>
              </a:rPr>
              <a:t>'</a:t>
            </a: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 un bel giorno decise che ne aveva abbast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5105520"/>
            <a:ext cx="68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La parola di Dio scese su Giovanni, nel deser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2019240" cy="1997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657600" y="1828800"/>
            <a:ext cx="1735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19320" y="76212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Giovanni comincio</a:t>
            </a:r>
            <a:r>
              <a:rPr b="1" lang="it-IT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'</a:t>
            </a: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 ad andare in giro per tutta la regione del Giordano, battezzando e predicand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14600" y="2681280"/>
            <a:ext cx="5334120" cy="4176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181480" y="3429000"/>
            <a:ext cx="1623960" cy="2255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838080" y="1828800"/>
            <a:ext cx="198936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38080" y="533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Battezzan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5334120"/>
            <a:ext cx="68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Si</a:t>
            </a:r>
            <a:r>
              <a:rPr b="1" lang="it-IT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'</a:t>
            </a: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, battezzava tutti quelli che andavano da l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6095880"/>
            <a:ext cx="68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persino Gesu</a:t>
            </a:r>
            <a:r>
              <a:rPr b="1" lang="it-IT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'</a:t>
            </a: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892440" cy="1314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024360" y="1052640"/>
            <a:ext cx="3873240" cy="4267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590920" y="1143000"/>
            <a:ext cx="1014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951280" y="1052640"/>
            <a:ext cx="3873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5800" y="7621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E cosa predicav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1846440" cy="3581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 rot="3906600">
            <a:off x="3390480" y="2476080"/>
            <a:ext cx="594360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lurrd"/>
              </a:rPr>
              <a:t>convertitevi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lurrd"/>
              <a:ea typeface="Blur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819520" y="1371600"/>
            <a:ext cx="3657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lurrd"/>
              </a:rPr>
              <a:t>Cioe'...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lurrd"/>
              <a:ea typeface="Blurrd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304812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Blur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Non si è “popolo di Dio” per diritto di nascita, ma perche</a:t>
            </a:r>
            <a:r>
              <a:rPr b="1" lang="it-IT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'</a:t>
            </a: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 si seguono le regole di 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86440" y="2438280"/>
            <a:ext cx="2557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144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Blur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Bisogna donare quello che abbiamo in piu</a:t>
            </a:r>
            <a:r>
              <a:rPr b="1" lang="it-IT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'</a:t>
            </a: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 a chi non ne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486400" y="3627360"/>
            <a:ext cx="3200400" cy="2925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15000" y="2286000"/>
            <a:ext cx="2079720" cy="2789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843280" y="1413000"/>
            <a:ext cx="3657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lurrd"/>
              </a:rPr>
              <a:t>Cioe'...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lurrd"/>
              <a:ea typeface="Blurr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981080" y="5257800"/>
            <a:ext cx="98928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34920" y="2492280"/>
            <a:ext cx="335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Blur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Non bisogna chiedere niente agli altri oltre cio</a:t>
            </a:r>
            <a:r>
              <a:rPr b="1" lang="it-IT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'</a:t>
            </a: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 che e</a:t>
            </a:r>
            <a:r>
              <a:rPr b="1" lang="it-IT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'</a:t>
            </a: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 giusto o che ci e</a:t>
            </a:r>
            <a:r>
              <a:rPr b="1" lang="it-IT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'</a:t>
            </a: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 dov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3200400"/>
            <a:ext cx="3086280" cy="2343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095560" y="4952880"/>
            <a:ext cx="1028520" cy="1371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819520" y="1371600"/>
            <a:ext cx="3657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lurrd"/>
              </a:rPr>
              <a:t>Cioe'...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lurrd"/>
              <a:ea typeface="Blur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066680" y="1371600"/>
            <a:ext cx="70106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lurrd"/>
              </a:rPr>
              <a:t>"Il precursore"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lurrd"/>
              <a:ea typeface="Blurrd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48520" y="5105520"/>
            <a:ext cx="2300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lurrd"/>
              </a:rPr>
              <a:t>...no..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lurrd"/>
              <a:ea typeface="Blurrd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920" y="3321000"/>
            <a:ext cx="396216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14400" y="30481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Blur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Non bisogna essere prepot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24280" y="2666880"/>
            <a:ext cx="3276720" cy="350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819520" y="1371600"/>
            <a:ext cx="3657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lurrd"/>
              </a:rPr>
              <a:t>Cioe'...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lurrd"/>
              <a:ea typeface="Blur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441360"/>
            <a:ext cx="43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rrd"/>
              </a:rPr>
              <a:t>Molti pensavano che queste cose fossero giu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920" y="3357720"/>
            <a:ext cx="46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urrd"/>
              </a:rPr>
              <a:t>E si chiedevano se Giovanni non fosse il “Messia” annunciato dai profe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256360" y="1989000"/>
            <a:ext cx="35049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38080" y="457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Ma Giovanni negava sempre, e diceva di essere venuto solo a preparargli la s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4720" y="1773360"/>
            <a:ext cx="3349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lurrd"/>
              </a:rPr>
              <a:t>“</a:t>
            </a:r>
            <a:r>
              <a:rPr b="0" lang="it-IT" sz="2200" spc="-1" strike="noStrike">
                <a:solidFill>
                  <a:srgbClr val="000000"/>
                </a:solidFill>
                <a:latin typeface="Blurrd"/>
              </a:rPr>
              <a:t>Io vi battezzo con acqua; ma viene uno che e</a:t>
            </a:r>
            <a:r>
              <a:rPr b="1" lang="it-IT" sz="2200" spc="-1" strike="noStrike">
                <a:solidFill>
                  <a:srgbClr val="000000"/>
                </a:solidFill>
                <a:latin typeface="Blurrd"/>
                <a:ea typeface="Times New Roman"/>
              </a:rPr>
              <a:t>'</a:t>
            </a:r>
            <a:r>
              <a:rPr b="0" lang="it-IT" sz="2200" spc="-1" strike="noStrike">
                <a:solidFill>
                  <a:srgbClr val="000000"/>
                </a:solidFill>
                <a:latin typeface="Blurrd"/>
              </a:rPr>
              <a:t> più forte di me, al quale io non son degno di sciogliere neppure il legaccio dei sandali: costui vi battezzera</a:t>
            </a:r>
            <a:r>
              <a:rPr b="1" lang="it-IT" sz="2200" spc="-1" strike="noStrike">
                <a:solidFill>
                  <a:srgbClr val="000000"/>
                </a:solidFill>
                <a:latin typeface="Blurrd"/>
                <a:ea typeface="Times New Roman"/>
              </a:rPr>
              <a:t>'</a:t>
            </a:r>
            <a:r>
              <a:rPr b="0" lang="it-IT" sz="2200" spc="-1" strike="noStrike">
                <a:solidFill>
                  <a:srgbClr val="000000"/>
                </a:solidFill>
                <a:latin typeface="Blurrd"/>
              </a:rPr>
              <a:t> in Spirito Santo e fuoco.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87280" y="2457360"/>
            <a:ext cx="46483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85800" y="228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Non tutti la pensavano cosi</a:t>
            </a:r>
            <a:r>
              <a:rPr b="1" lang="en-US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'</a:t>
            </a: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, comun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6360" y="4724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A molti non piacevano le cose che diceva Giovanni, soprattutto ai potenti, perche</a:t>
            </a:r>
            <a:r>
              <a:rPr b="1" lang="it-IT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'</a:t>
            </a: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 mettevano in evidenza tutti i loro cattivi comportame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438280" y="1143000"/>
            <a:ext cx="410544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9480" y="4572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Per questo raccontano che Erode lo avesse fatto imprigion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105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E che infine sua figlia gli avesse chiesto di farlo decapit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373392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6094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Eppure di lui Gesu</a:t>
            </a:r>
            <a:r>
              <a:rPr b="1" lang="it-IT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'</a:t>
            </a: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 dice: “tra i nati da donna non e</a:t>
            </a:r>
            <a:r>
              <a:rPr b="1" lang="it-IT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'</a:t>
            </a: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 sorto uno piu</a:t>
            </a:r>
            <a:r>
              <a:rPr b="1" lang="it-IT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'</a:t>
            </a: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 grande di Giovanni Battis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987640" y="1952640"/>
            <a:ext cx="32497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137160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Venne un uomo mandato da Dio e il suo nome era Giovan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Egli venne come testimone per rendere testimonianza alla lu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perche</a:t>
            </a:r>
            <a:r>
              <a:rPr b="1" lang="it-IT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'</a:t>
            </a: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tutti credessero per mezzo di lu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Egli non era la luce, ma doveva render testimonianza alla l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Veniva nel mondo la luce vera, quella che illumina ogni uomo.</a:t>
            </a: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90720" y="1981080"/>
            <a:ext cx="7162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lurrd"/>
                <a:ea typeface="Times New Roman"/>
              </a:rPr>
              <a:t>Giovanni gli rende testimonianza e grida: “Ecco l’uomo di cui io dissi: Colui che viene dopo di me mi </a:t>
            </a:r>
            <a:r>
              <a:rPr b="0" lang="it-IT" sz="2800" spc="-1" strike="noStrike">
                <a:solidFill>
                  <a:srgbClr val="000000"/>
                </a:solidFill>
                <a:latin typeface="Blurrd"/>
                <a:ea typeface="Times New Roman"/>
              </a:rPr>
              <a:t>e</a:t>
            </a:r>
            <a:r>
              <a:rPr b="1" lang="it-IT" sz="2800" spc="-1" strike="noStrike">
                <a:solidFill>
                  <a:srgbClr val="000000"/>
                </a:solidFill>
                <a:latin typeface="Blurrd"/>
                <a:ea typeface="Times New Roman"/>
              </a:rPr>
              <a:t>'</a:t>
            </a:r>
            <a:r>
              <a:rPr b="0" lang="it-IT" sz="2800" spc="-1" strike="noStrike">
                <a:solidFill>
                  <a:srgbClr val="000000"/>
                </a:solidFill>
                <a:latin typeface="Blurrd"/>
                <a:ea typeface="Times New Roman"/>
              </a:rPr>
              <a:t> passato avanti, perch</a:t>
            </a:r>
            <a:r>
              <a:rPr b="0" lang="it-IT" sz="2800" spc="-1" strike="noStrike">
                <a:solidFill>
                  <a:srgbClr val="000000"/>
                </a:solidFill>
                <a:latin typeface="Blurrd"/>
                <a:ea typeface="Times New Roman"/>
              </a:rPr>
              <a:t>e</a:t>
            </a:r>
            <a:r>
              <a:rPr b="1" lang="it-IT" sz="2800" spc="-1" strike="noStrike">
                <a:solidFill>
                  <a:srgbClr val="000000"/>
                </a:solidFill>
                <a:latin typeface="Blurrd"/>
                <a:ea typeface="Times New Roman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lurrd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Blurrd"/>
                <a:ea typeface="Times New Roman"/>
              </a:rPr>
              <a:t>era prima di me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66680" y="1143000"/>
            <a:ext cx="725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Blurrd"/>
                <a:ea typeface="Times New Roman"/>
              </a:rPr>
              <a:t>E il Verbo si fece carne e venne ad abitare in mezzo a noi; e noi vedemmo la sua gloria, gloria come di unigenito dal Padre, pieno di grazia e di verita</a:t>
            </a:r>
            <a:r>
              <a:rPr b="1" lang="it-IT" sz="3600" spc="-1" strike="noStrike">
                <a:solidFill>
                  <a:srgbClr val="000000"/>
                </a:solidFill>
                <a:latin typeface="Blurrd"/>
                <a:ea typeface="Times New Roman"/>
              </a:rPr>
              <a:t>'</a:t>
            </a:r>
            <a:r>
              <a:rPr b="0" lang="it-IT" sz="3600" spc="-1" strike="noStrike">
                <a:solidFill>
                  <a:srgbClr val="000000"/>
                </a:solidFill>
                <a:latin typeface="Blurrd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762120" y="1905120"/>
            <a:ext cx="784836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lurrd"/>
              </a:rPr>
              <a:t>In parole povere..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lurrd"/>
              <a:ea typeface="Blur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83520" y="144792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Un giorno Zaccaria stava nel tempi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6576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...e gli apparve un angel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391520" y="1905120"/>
            <a:ext cx="1485720" cy="4647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62120" y="2592360"/>
            <a:ext cx="281916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08040" y="1479600"/>
            <a:ext cx="603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L’angelo annunci</a:t>
            </a:r>
            <a:r>
              <a:rPr b="0" lang="it-IT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o</a:t>
            </a:r>
            <a:r>
              <a:rPr b="1" lang="it-IT" sz="2400" spc="-1" strike="noStrike">
                <a:solidFill>
                  <a:srgbClr val="000000"/>
                </a:solidFill>
                <a:latin typeface="Blurrd"/>
                <a:ea typeface="Times New Roman"/>
              </a:rPr>
              <a:t>'</a:t>
            </a:r>
            <a:r>
              <a:rPr b="0" lang="it-IT" sz="2400" spc="-1" strike="noStrike">
                <a:solidFill>
                  <a:srgbClr val="000000"/>
                </a:solidFill>
                <a:latin typeface="Blurrd"/>
              </a:rPr>
              <a:t> a Zaccaria che presto avrebbe avuto un fig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60680" y="3165480"/>
            <a:ext cx="573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E Zaccaria, che era vecchio, e vecchia era pure sua moglie, non poteva creder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838840" cy="5743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76520" y="129528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E siccome l’angelo non era troppo paziente, lo fece stare muto per nove 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548640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rrd"/>
              </a:rPr>
              <a:t>Fino alla nascita del figlio, inso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76720" y="2590920"/>
            <a:ext cx="281916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2T21:01:45Z</dcterms:created>
  <dc:creator>Chiara</dc:creator>
  <dc:description/>
  <dc:language>en-US</dc:language>
  <cp:lastModifiedBy>The Crazy Pianist</cp:lastModifiedBy>
  <dcterms:modified xsi:type="dcterms:W3CDTF">2003-12-13T08:50:10Z</dcterms:modified>
  <cp:revision>14</cp:revision>
  <dc:subject/>
  <dc:title>Presentazione di PowerPoint</dc:title>
</cp:coreProperties>
</file>